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3B9-7BB7-464F-828D-11F34752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137-2779-4C8A-B979-5F688E33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506-53A0-45D7-AC4C-ABC89A79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299-EF52-4F65-9E40-25F3EA12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D77E-3F21-4654-9448-39D71254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71DB-DCEF-462C-9624-AE26C1AC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69C4-49D8-4D82-882F-29FAA726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8729-4E2B-441C-A441-0A318A6D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67EB-FF52-4947-81B8-A67630B5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7D6C-A0C1-4010-8F50-18576AA1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940E-CE46-4E61-945E-1C9CDDFC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0D3-572B-49A3-84FC-53C72A71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4523-5F1B-475C-88E4-E95CBF7C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5FA3-ABAD-48A3-8E7E-EB9A299F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3B9A-BAF7-4002-922D-F533EDFB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ABE2-8FBE-4ECF-9114-15FEFA5B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3310-5B68-4B26-9D04-BED71D2B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73C-EC3B-4B8F-9340-403A0A41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D5B-3BD7-4C2D-B0C2-75D90F26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C7C-F642-4018-A640-BBE1C8A1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4BD-BF3D-4C63-B7E9-4673CB1A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B5A-5B8F-47F1-A8B7-4E6CE3F7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C10A-505A-4344-8CC7-40FC892A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C49-F980-4B96-8581-9085540E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00B3-947C-41B6-AB85-ECC8BCF058D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49DD-B5B5-40D2-BEAC-9587F5C692C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42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Times New Roman"/>
              </a:rPr>
              <a:t>MANIPULAREA</a:t>
            </a: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5796000" y="2997360"/>
            <a:ext cx="28573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1844640"/>
            <a:ext cx="914400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cceptaţi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erderile pe termen scurt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uneţi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„piciorul în prag”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când sunteţi nemulţumiţi sau agasaţi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nsistaţi cu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întrebăril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până ce vă lămuriţi complet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escifraţi sensuril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ascunse ale lucrurilor sau situaţiilor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dentificaţi principalii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genţi de influenţă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ai grupului într-un anturaj nou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vitaţi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tuaţiile nu vă puteţi manifesta libertatea de acţiune sau de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xprimar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190880" y="785880"/>
            <a:ext cx="70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Tehnici de rezistenţă la manipular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609480" y="1916280"/>
            <a:ext cx="853452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detaşaţi-vă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emoţional;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acţionaţi şi luaţi decizi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pe deplin conştienţi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acceptaţ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schimbul de idei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identificaţ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momentele în care simţiţi un sentiment de vină şi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încercaţi să-i aflaţi originea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190880" y="785880"/>
            <a:ext cx="70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Tehnici de rezistenţă la manipular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533520" y="1557360"/>
            <a:ext cx="861048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buClr>
                <a:srgbClr val="9e06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e0623"/>
                </a:solidFill>
                <a:latin typeface="Times New Roman"/>
              </a:rPr>
              <a:t>NU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acordaţi credit soluţiilor simple în cazul unor probleme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personale, sociale sau politice complex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9e06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e0623"/>
                </a:solidFill>
                <a:latin typeface="Times New Roman"/>
              </a:rPr>
              <a:t>NU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există prietenie totală, necondiţionată din partea unui străin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1800"/>
              </a:spcBef>
              <a:buClr>
                <a:srgbClr val="9e06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e0623"/>
                </a:solidFill>
                <a:latin typeface="Times New Roman"/>
              </a:rPr>
              <a:t>NU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luaţi decizii sau hotărâri pripit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9e06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e0623"/>
                </a:solidFill>
                <a:latin typeface="Times New Roman"/>
              </a:rPr>
              <a:t>NU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vă dezvăluiţi sentimentele, dorinţele ascunse, slăbiciunile sau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limitele în faţa oricui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9e06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e0623"/>
                </a:solidFill>
                <a:latin typeface="Times New Roman"/>
              </a:rPr>
              <a:t>NU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vă lăsaţi la cheremul lăcomiei şi al satisfacerii orgoliului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propriu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9e06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e0623"/>
                </a:solidFill>
                <a:latin typeface="Times New Roman"/>
              </a:rPr>
              <a:t>NU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sunt suficiente vociferările sau reacţiile emoţionale pentru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contracararea actelor de inechita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190880" y="785880"/>
            <a:ext cx="70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Tehnici de rezistenţă la manipular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533520" y="191628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Atenţie la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cei care se erijează în autorităţi;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perspectiva din care alţii încearcă să prezinte o problemă;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regulile impuse de gazd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consecvenţa poate conduce la rigiditat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262520" y="765000"/>
            <a:ext cx="70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Tehnici de rezistenţă la manipular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189440" y="907920"/>
            <a:ext cx="21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Întrebări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68360" y="2205000"/>
            <a:ext cx="867564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5b52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Puteţi identifica un manipulator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100"/>
              </a:spcBef>
              <a:buClr>
                <a:srgbClr val="5b52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Cât de des simţiţi că sunteţi manipulaţi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100"/>
              </a:spcBef>
              <a:buClr>
                <a:srgbClr val="5b52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Recurgeţi la tehnica manipulării deseori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189440" y="9079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onclu</a:t>
            </a: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zii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3141720"/>
            <a:ext cx="86756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5b52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Manipulatorii nu sunt o specie aparte de oameni. 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o-RO" sz="2800" spc="-1" strike="noStrike">
                <a:solidFill>
                  <a:srgbClr val="5b5249"/>
                </a:solidFill>
                <a:latin typeface="Times New Roman"/>
              </a:rPr>
              <a:t>Manipulatorii sunt printre noi..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100"/>
              </a:spcBef>
              <a:buClr>
                <a:srgbClr val="5b52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Nu e important să ai dreptate, important este să fii 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o-RO" sz="2800" spc="-1" strike="noStrike">
                <a:solidFill>
                  <a:srgbClr val="5b5249"/>
                </a:solidFill>
                <a:latin typeface="Times New Roman"/>
              </a:rPr>
              <a:t>CREDIBIL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!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659640" y="549360"/>
            <a:ext cx="21906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468360" y="28321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buClr>
                <a:srgbClr val="4c584e"/>
              </a:buClr>
              <a:buFont typeface="Times New Roman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5b5249"/>
                </a:solidFill>
                <a:latin typeface="Times New Roman"/>
              </a:rPr>
              <a:t>Succes</a:t>
            </a:r>
            <a:r>
              <a:rPr b="0" lang="ro-RO" sz="3200" spc="-1" strike="noStrike">
                <a:solidFill>
                  <a:srgbClr val="5b5249"/>
                </a:solidFill>
                <a:latin typeface="Times New Roman"/>
              </a:rPr>
              <a:t>! într-o lume a manipulării ..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189440" y="907920"/>
            <a:ext cx="26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Mulţumesc!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565440" y="1674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5b5249"/>
                </a:solidFill>
                <a:latin typeface="Times New Roman"/>
              </a:rPr>
              <a:t>şi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476360" y="3860640"/>
            <a:ext cx="76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i="1" lang="ro-RO" sz="2800" spc="-1" strike="noStrike">
                <a:solidFill>
                  <a:srgbClr val="5b5249"/>
                </a:solidFill>
                <a:latin typeface="Times New Roman"/>
              </a:rPr>
              <a:t>... Iar dacă aveţi impresia că veţi putea scăpa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5b5249"/>
                </a:solidFill>
                <a:latin typeface="Times New Roman"/>
              </a:rPr>
              <a:t>de manipulările celorlalţi..., vă înşelaţi amarnic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987640" y="1341000"/>
            <a:ext cx="5905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just">
              <a:lnSpc>
                <a:spcPct val="8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Identificarea principalelor cauze şi efecte ale diferitelor tipuri de manipula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448080" y="2409840"/>
            <a:ext cx="22478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86880" y="765000"/>
            <a:ext cx="43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5b5249"/>
                </a:solidFill>
                <a:latin typeface="Times New Roman"/>
              </a:rPr>
              <a:t>Scopul prezentării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36003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Analiza fenomenului manipulări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Metode şi instrumente ale manipulări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Tehnici de manipula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Tehnici de rezistenţă la manipula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189440" y="949320"/>
            <a:ext cx="2410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Obiective</a:t>
            </a:r>
            <a:r>
              <a:rPr b="1" lang="ro-RO" sz="40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09480" y="838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5b5249"/>
                </a:solidFill>
                <a:latin typeface="Times New Roman"/>
              </a:rPr>
              <a:t>Definiţii ale manipulări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50920" y="227664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reare premeditată a unei situaţii sociale cu scopul de a influenţa reacţiile şi comportamentul manipulaţilor în scopul dorit de manipulanţi.</a:t>
            </a:r>
            <a:r>
              <a:rPr b="1" lang="en-GB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211640" y="4221000"/>
            <a:ext cx="468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tehnică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 direcţio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re a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 opini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i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 public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 într-un anumit  sens dorit şi bine preciza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3838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4360" y="2492280"/>
            <a:ext cx="84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controlul comunicaţiilor uman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- cine controlează prezentul, 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controlează şi viitoru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manipularea mistică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- situarea grupului conducător sub o aureolă mistică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cerinţa de puritat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– delimitarea strictă bine / rău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cultul confesiuni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– conducerea subordonată religiei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ştiinţa sacră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– crearea unei surse sacre în jurul dogmelor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remodelarea limbajulu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– limba de lemn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redefinirea limbajulu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– anularea logicii şi deformarea realităţii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39640" y="817560"/>
            <a:ext cx="84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Metode şi instrumente ale manipulării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489120" y="1484280"/>
            <a:ext cx="47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5b5249"/>
                </a:solidFill>
                <a:latin typeface="Times New Roman"/>
              </a:rPr>
              <a:t>au drept scop obţinerea controlulu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974880" y="83664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Metode şi instrumente ale manipulării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8288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octrina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mai presus de oameni şi inver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elimitarea socială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– o parte are drepturi şi o parte nu are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ici un drept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parenţa libertăţii de decizi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rearea de stereotipii dinamic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pariţia în preajma unor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ersoane foarte popular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nocularea frici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(spaimei) faţă de părăsirea grupului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ontrolul limbajului şi al gândirii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119240" y="76500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Metode şi instrumente ale manipulării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68360" y="191628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5b524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opagarea de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isonanţe cognitiv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5b524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pălarea creierulu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5b524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esajele subliminal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5b524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xagerarea uşoară a succeselor proprii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5b524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mplificarea insucceselor celorlalţ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1628640"/>
            <a:ext cx="8964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00" spc="-1" strike="noStrike">
                <a:solidFill>
                  <a:srgbClr val="5b5249"/>
                </a:solidFill>
                <a:latin typeface="Times New Roman"/>
              </a:rPr>
              <a:t>    </a:t>
            </a:r>
            <a:r>
              <a:rPr b="0" lang="ro-RO" sz="7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7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reearea unei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ormalităţi aparent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rearea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mpresiei de competenţă, încredere şi siguranţă de s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ietenia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anipulatorului cu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victim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rearea unei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umi iluzori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pel la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sentimentel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celorlalţi, la emoţi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pecularea surselor de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teamă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nducerea sentimentului de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vinovăţ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553480" y="907920"/>
            <a:ext cx="45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Tehnici de manipular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020000" y="4149720"/>
            <a:ext cx="1828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1844640"/>
            <a:ext cx="868680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determinarea celui manipulat de a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alege ceea ce dorim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, convingerea acestuia că a procedat bine; inducerea celorlalţi de a face la fel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punerea cât mai multor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piedici  în atingerea unui ţel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; focalizarea pe atingerea lui şi îndepărtarea de alte variante posibil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dorinţa manipulatorului de a se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cufunda în anonimatul mase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şi de a învăţa din greşelile trecutului pentru a nu le mai repe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nu se permite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nicio împotrivir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la regulile şi normele impu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198160" y="765000"/>
            <a:ext cx="45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Tehnici de manipular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3:54:00Z</dcterms:created>
  <dc:creator>dorina</dc:creator>
  <dc:description/>
  <dc:language>en-US</dc:language>
  <cp:lastModifiedBy>user</cp:lastModifiedBy>
  <dcterms:modified xsi:type="dcterms:W3CDTF">2018-05-05T05:49:44Z</dcterms:modified>
  <cp:revision>16</cp:revision>
  <dc:subject/>
  <dc:title>Manipularea</dc:title>
</cp:coreProperties>
</file>